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3B9-83BC-4AB9-93EA-1C0DBB1E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9C0-FC9A-40A1-B8DC-001C8BD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E2E-5BDC-4122-8520-71CA52A1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C45-C183-44CF-9833-0ED311A7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DEF-8000-49A7-8DBC-65C1348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1E0-311F-4C2C-9F7B-BD0C7B25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04F-0A8E-4D74-ADF1-8D54187C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DBC-DE3B-45B4-9F4A-55556430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53F-B57E-49AF-99E3-520F3100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C63-AD1A-4415-B0B9-B49DFBFC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315-3DE3-40FA-A822-81394C8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F8B-4C67-4B4D-8B84-548FB02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B679-490F-4861-ACD4-7DDC8D0C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d2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Lauge Gregers Hedeg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2016360" cy="191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133720"/>
            <a:ext cx="7885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Hello my name is Lau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I am 14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I like to work with comp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I want to b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 or something else with comp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y spare time I’m going to athletic, and I’m running very m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09:26Z</dcterms:created>
  <dc:creator>02a9</dc:creator>
  <dc:description/>
  <dc:language>en-US</dc:language>
  <cp:lastModifiedBy>02a9</cp:lastModifiedBy>
  <dcterms:modified xsi:type="dcterms:W3CDTF">2010-02-09T09:29:52Z</dcterms:modified>
  <cp:revision>2</cp:revision>
  <dc:subject/>
  <dc:title>Lauge Gregers Hedegaard</dc:title>
</cp:coreProperties>
</file>